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FCE6-A62A-489A-AB25-5236DECEB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DFBA-C119-4FE1-9991-5362B6E8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44EA-D65D-4687-AA01-D90A99E3F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5EF3-42B3-4C0B-B69C-BF2E952A8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F531-1637-4067-BF2A-523C1A35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1B68-C7DF-414D-A984-4DF16F37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44CC-20BF-4888-9DCF-9AE28763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F57E-E886-4F7A-A8E0-5DE14876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6B29-8E19-43E8-8106-2B8925F2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EB7E-FC56-4305-B5A7-F958796B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E9FC-D3FB-44B0-AAD3-6A84A74A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C42C-0B1F-4798-9508-EB9C6E9A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F77F-8520-4511-90C6-EBC5EA3F9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xis Inter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re you taking no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ero Metho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#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2x –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y with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 0 = 2x –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x with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y = 2(0) – 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 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ero Metho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x + 6y =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the y with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   2x + 6(0) =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the x with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   2(0) + 6y =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ero Metho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#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x = 2y –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the y with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6x = 2(0) –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the x with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6(0) = 2y –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ero Metho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#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½ x 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the y with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   0= ½ x 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the x with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 y = ½ (0)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02:57:33Z</dcterms:created>
  <dc:creator>Preferred Customer</dc:creator>
  <dc:description/>
  <dc:language>en-US</dc:language>
  <cp:lastModifiedBy>Preferred Customer</cp:lastModifiedBy>
  <dcterms:modified xsi:type="dcterms:W3CDTF">2007-12-11T03:05:45Z</dcterms:modified>
  <cp:revision>2</cp:revision>
  <dc:subject/>
  <dc:title>Axis Intercepts</dc:title>
</cp:coreProperties>
</file>